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D6B-6FAD-4EB3-806A-08768A44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E0E-E198-4715-946B-20FFB14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C06-0B45-43E7-B5E4-732F25E8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2A5-4DE2-4D91-A079-793F2ED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83C-8B89-48B7-985B-64B1490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641-45F4-4C4F-B4E1-BA02EF9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31A-C6C9-4D12-ABC6-2E7577E2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35A-54D0-44BE-9598-5827A67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5C9-D8AD-4494-9617-7F03246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013-A1FE-4453-A00C-4F51F87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BB7-F1E4-4B78-9786-3C62CF6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D44-8B8A-4BB3-A7E2-70333AD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C17-0588-443E-A0D4-FEF17084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Your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you begin your research, consider what types of information you ne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need to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,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different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953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is t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larly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also consider your topic within the academic disciplin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aspects: Soc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aspects: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aspects: Political Science/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spects: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fore you settle on a topic, do some preliminary explor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your topic in a library catalog, such as Pacifi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your topic in one of the library’s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not locate any information about your topic this way, you might ask a librari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47:48Z</dcterms:created>
  <dc:creator>lknight</dc:creator>
  <dc:description/>
  <dc:language>en-US</dc:language>
  <cp:lastModifiedBy>nfinleyadm</cp:lastModifiedBy>
  <dcterms:modified xsi:type="dcterms:W3CDTF">2006-11-17T00:24:53Z</dcterms:modified>
  <cp:revision>6</cp:revision>
  <dc:subject/>
  <dc:title>Analyzing Your Topic</dc:title>
</cp:coreProperties>
</file>